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A759-2A8D-412A-BC06-01A33C92D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CA5D-AB0E-4752-AF40-E7296B71A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C140-7A97-4FB0-BE81-6E204EAAA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F27-6825-40FB-B64D-16DDB48501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7670-A0D4-4EA9-9DEA-340F44971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FB1-06BF-4DB2-B1E4-45ADF4C88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AD86-5A56-4835-9B6C-5EB5DD81F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D9D-5EC6-4BAF-A10E-9CFC0B373E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45E-3947-4BB6-97C3-7A38419D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509-05E0-4362-80AF-18F561C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1D6-BCAF-4468-8437-DBF57A85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1B6-183F-44CF-980A-AF1895F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FB9-67A5-411C-B6D3-111A9842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D36-DA84-4FB4-9725-F479F2AC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F08-EC80-4F59-8626-2BBA8B4B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7A9-8A38-419A-BD82-3AD30DF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EF6-A1BD-4FBF-AEB6-447D913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367-E0DD-4E9E-A703-CC447E3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4DB-38D9-4F37-8F8E-67EF601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F53-2B1F-44E6-AD37-16B8983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C2DE-6FC6-484A-80D5-E1EED4C6C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8.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Constantia"/>
              </a:rPr>
              <a:t>COMPOSITION AND STRUCTURE OF ATMOSPHER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1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AFSAL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HSST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GVHSS PULLAN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MALAPPU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98090882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FSAL. T.jpg"/>
          <p:cNvPicPr/>
          <p:nvPr/>
        </p:nvPicPr>
        <p:blipFill>
          <a:blip r:embed="rId1"/>
          <a:stretch/>
        </p:blipFill>
        <p:spPr>
          <a:xfrm>
            <a:off x="3962520" y="4141800"/>
            <a:ext cx="190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2060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TROPO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2060">
              <a:alpha val="3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upper layer of troposphere is called tropop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s a thin layer and its height changes according to la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n fact this is a transitional zone which separates the  troposphere with the strat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temperature at the tropopause is about -8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nstanti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C over the equator and -45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nstanti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C over the p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952880" cy="5715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above the tropopause and extends up to 50 k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contains the ozone layer, which protects us from harmful sun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t act as a shield life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ropopause which separates stratosphere and mes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1120" y="1066320"/>
            <a:ext cx="4952880" cy="579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t’s elevation ranges from 50 to 8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emperature decreasing with the increas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t 80 km temperature is  -100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onstantia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esopause which separates mesosphere and ther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968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219320" y="53341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mes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c0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6019920"/>
          </a:xfrm>
          <a:prstGeom prst="rect">
            <a:avLst/>
          </a:prstGeom>
          <a:solidFill>
            <a:srgbClr val="002060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It’s height ranges from 8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It contains electrically charged particles known as IONS so called ion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Radio waves reflected back to earth by this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This is where most small meteorites burn up and is also the location in the atmosphere that the northern lights occur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tmos"/>
          <p:cNvPicPr/>
          <p:nvPr/>
        </p:nvPicPr>
        <p:blipFill>
          <a:blip r:embed="rId1"/>
          <a:stretch/>
        </p:blipFill>
        <p:spPr>
          <a:xfrm>
            <a:off x="4572000" y="838080"/>
            <a:ext cx="457200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632448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ionosp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ccff"/>
                </a:solidFill>
                <a:latin typeface="Constantia"/>
              </a:rPr>
              <a:t>EXOSP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This is the highest layer but very little is known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 </a:t>
            </a: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Whatever contents are there, these are extremely rarefied in this layer and it gradually merges with the outer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onstantia"/>
              </a:rPr>
              <a:t>Geographers are concerned with the first two layers of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tmosphere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ff00">
                <a:alpha val="40000"/>
              </a:srgbClr>
            </a:outerShdw>
          </a:effectLst>
        </p:spPr>
      </p:pic>
      <p:sp>
        <p:nvSpPr>
          <p:cNvPr id="89" name="TextBox 8"/>
          <p:cNvSpPr/>
          <p:nvPr/>
        </p:nvSpPr>
        <p:spPr>
          <a:xfrm>
            <a:off x="4038480" y="39625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657600" y="396252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Constantia"/>
              </a:rPr>
              <a:t>STRA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4038480" y="350532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MES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419720" y="2819520"/>
            <a:ext cx="175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THER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3733920" y="137160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EX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3276720" y="510552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Constantia"/>
              </a:rPr>
              <a:t>TROP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7543800" y="5029200"/>
            <a:ext cx="1143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TRP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7086600" y="3581280"/>
            <a:ext cx="12193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STRT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7086600" y="3048120"/>
            <a:ext cx="1143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MES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5410080" y="1600200"/>
            <a:ext cx="13716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THERM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>
            <a:off x="3048120" y="3886200"/>
            <a:ext cx="5562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1"/>
          <p:cNvSpPr/>
          <p:nvPr/>
        </p:nvSpPr>
        <p:spPr>
          <a:xfrm>
            <a:off x="3124080" y="3429000"/>
            <a:ext cx="5562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2978280" y="4794120"/>
            <a:ext cx="6153120" cy="55116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6"/>
          <p:cNvSpPr/>
          <p:nvPr/>
        </p:nvSpPr>
        <p:spPr>
          <a:xfrm>
            <a:off x="3187800" y="1747800"/>
            <a:ext cx="5381640" cy="281160"/>
          </a:xfrm>
          <a:prstGeom prst="pie">
            <a:avLst/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nstantia"/>
              </a:rPr>
              <a:t>What is Atmosphere </a:t>
            </a:r>
            <a:r>
              <a:rPr b="1" lang="en-US" sz="4400" spc="-1" strike="noStrike">
                <a:solidFill>
                  <a:srgbClr val="00ccff"/>
                </a:solidFill>
                <a:latin typeface="Constantia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92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air envelope that completely surrounds the Earth is called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atmosphere is composed of gases, dust particles and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components proportion changes in high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Atmospheric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CO2 is meteorologically a very important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It is largely responsible foe Green hous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The volume of CO2 has been rising in the past few decades due to burning of fossil fu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This has also increased the air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Ozone is the another important components of the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There are  different types of gasses in the atmospher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523880"/>
          <a:ext cx="3886200" cy="4496040"/>
        </p:xfrm>
        <a:graphic>
          <a:graphicData uri="http://schemas.openxmlformats.org/drawingml/2006/table">
            <a:tbl>
              <a:tblPr/>
              <a:tblGrid>
                <a:gridCol w="2068560"/>
                <a:gridCol w="181764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r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Carbon 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e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Kryp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Xe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yd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tantia"/>
              </a:rPr>
              <a:t>WATER VA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s a variable gas in the atmosphere which decreases with alt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lso decreases from the equator towards the p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bsorbs parts of the insolation from the sun and preserves the earth’s radiated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cts like a blanket allowing the earth neither to become too cold nor too h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onstantia"/>
              </a:rPr>
              <a:t>DUST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ncludes sea salts, fine soil, smoke-soot, ash, pollens, dust and disintegrated particles of mete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y are generally concentrated in the lower layers of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y act as hygroscopic nuclei around which water vapour condenses to produc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nstantia"/>
              </a:rPr>
              <a:t>Structure of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atmosphere consist of different layers with varying density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rop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rat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es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Atm_Structure_Crop"/>
          <p:cNvPicPr/>
          <p:nvPr/>
        </p:nvPicPr>
        <p:blipFill>
          <a:blip r:embed="rId1"/>
          <a:stretch/>
        </p:blipFill>
        <p:spPr>
          <a:xfrm>
            <a:off x="5029200" y="11430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9" dur="1" fill="hold"/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/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1" dur="1" fill="hold"/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LAYERS OF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atmosphere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362320" y="495288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5029200" cy="5943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is is the lower most layer of the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It’s average height is 1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Equatorial regions-18km and Polar regions- 8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It contains dust particles and water va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is is the most important layer of all biological activity and climatic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e temperature in this layer decreases at the rate of 1</a:t>
            </a:r>
            <a:r>
              <a:rPr b="1" lang="en-US" sz="2400" spc="-1" strike="noStrike" baseline="30000">
                <a:solidFill>
                  <a:srgbClr val="05ff76"/>
                </a:solidFill>
                <a:latin typeface="Constantia"/>
              </a:rPr>
              <a:t>0</a:t>
            </a: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C for every 165 m height.(normal laps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2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304920" y="6248520"/>
            <a:ext cx="9903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Gvhss</cp:lastModifiedBy>
  <dcterms:modified xsi:type="dcterms:W3CDTF">2017-03-28T15:56:47Z</dcterms:modified>
  <cp:revision>98</cp:revision>
  <dc:subject/>
  <dc:title>Atmosphere</dc:title>
</cp:coreProperties>
</file>