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D724-7E50-49C4-8CCB-F8CCCA4CEA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0C45-83C7-4393-9294-D8F431DD3F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FED7-EF19-4869-8F69-F22AEEABD4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68DE-3D37-4E4E-A52B-6C062DBC8E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A327-ABCE-4A17-A816-3D89139E70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E536-6D8F-4515-81A0-DCE25BCFC3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E1DD-3C50-4112-BAFB-EA1CA735D0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E526-0411-4DFD-86AF-69506D8746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737A-929B-45DA-B005-9D4EFD66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7081-413A-43F3-B7AE-C7CE420F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2A14-7281-4C0F-B8B9-C92E3C10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5A83-C623-4C5B-930E-17C7BDD5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639B-02C1-41A5-82DE-98B39380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BABA-D265-49C5-AD0C-94AF0BFC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0A56-0CA9-4EEC-8F6D-2413D8E9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34F1-B8DD-48CA-AA26-FCB2FC8C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0D18-FBB1-47A0-B2E3-5D8B1B3D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6B66-3241-47C1-9D25-B927601E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41F3-728D-4051-A11F-A19D153B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0C33-E94C-4924-B3B8-25A7CA07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555B-362E-417D-800B-ED2D265FD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jcmr.org/distils/lab/ozone/layer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nstantia"/>
              </a:rPr>
              <a:t>8.</a:t>
            </a:r>
            <a:r>
              <a:rPr b="1" lang="en-US" sz="4000" spc="-1" strike="noStrike">
                <a:solidFill>
                  <a:srgbClr val="ffff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nstantia"/>
              </a:rPr>
              <a:t>	</a:t>
            </a:r>
            <a:br>
              <a:rPr sz="4000"/>
            </a:br>
            <a:r>
              <a:rPr b="1" lang="en-US" sz="4000" spc="-1" strike="noStrike">
                <a:solidFill>
                  <a:srgbClr val="00ccff"/>
                </a:solidFill>
                <a:latin typeface="Constantia"/>
              </a:rPr>
              <a:t>COMPOSITION AND STRUCTURE OF ATMOSPHER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09480" y="4571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Constantia"/>
              </a:rPr>
              <a:t>AFSAL.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Constantia"/>
              </a:rPr>
              <a:t>HSST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Constantia"/>
              </a:rPr>
              <a:t>GVHSS PULLAN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Constantia"/>
              </a:rPr>
              <a:t>MALAPPU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Arial"/>
              </a:rPr>
              <a:t>98090882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AFSAL. T.jpg"/>
          <p:cNvPicPr/>
          <p:nvPr/>
        </p:nvPicPr>
        <p:blipFill>
          <a:blip r:embed="rId1"/>
          <a:stretch/>
        </p:blipFill>
        <p:spPr>
          <a:xfrm>
            <a:off x="3962520" y="4141800"/>
            <a:ext cx="190476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2060">
              <a:alpha val="3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TROPOPA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002060">
              <a:alpha val="3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The upper layer of troposphere is called tropopa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It is a thin layer and its height changes according to latitu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In fact this is a transitional zone which separates the  troposphere with the stratosp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The temperature at the tropopause is about -8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nstantia"/>
              </a:rPr>
              <a:t>0</a:t>
            </a: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 C over the equator and -45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nstantia"/>
              </a:rPr>
              <a:t>0</a:t>
            </a: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 C over the p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STRAT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952880" cy="57150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is layer above the tropopause and extends up to 50 k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is layer contains the ozone layer, which protects us from harmful sunl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It act as a shield life 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ropopause which separates stratosphere and mes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4724280" y="1143000"/>
            <a:ext cx="4419720" cy="5715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Mes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91120" y="1066320"/>
            <a:ext cx="4952880" cy="5791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is layer is above the strat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It’s elevation ranges from 50 to 80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emperature decreasing with the increasing 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t 80 km temperature is  -100</a:t>
            </a:r>
            <a:r>
              <a:rPr b="1" lang="en-US" sz="2800" spc="-1" strike="noStrike" baseline="30000">
                <a:solidFill>
                  <a:srgbClr val="002060"/>
                </a:solidFill>
                <a:latin typeface="Constantia"/>
              </a:rPr>
              <a:t>0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Mesopause which separates mesosphere and thermosp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lay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209680"/>
            <a:ext cx="4191120" cy="335304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1219320" y="5334120"/>
            <a:ext cx="16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nstantia"/>
              </a:rPr>
              <a:t>meso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c000">
              <a:alpha val="5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THERMOSPHE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572000" cy="6019920"/>
          </a:xfrm>
          <a:prstGeom prst="rect">
            <a:avLst/>
          </a:prstGeom>
          <a:solidFill>
            <a:srgbClr val="002060">
              <a:alpha val="63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nstantia"/>
              </a:rPr>
              <a:t>It’s height ranges from 80 to 400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nstantia"/>
              </a:rPr>
              <a:t>It contains electrically charged particles known as IONS so called ionosp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nstantia"/>
              </a:rPr>
              <a:t>Radio waves reflected back to earth by this lay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nstantia"/>
              </a:rPr>
              <a:t>This is where most small meteorites burn up and is also the location in the atmosphere that the northern lights occur (aurora boreal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atmos"/>
          <p:cNvPicPr/>
          <p:nvPr/>
        </p:nvPicPr>
        <p:blipFill>
          <a:blip r:embed="rId1"/>
          <a:stretch/>
        </p:blipFill>
        <p:spPr>
          <a:xfrm>
            <a:off x="4572000" y="838080"/>
            <a:ext cx="4572000" cy="601992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6324480" y="2209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ionosphe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8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ccff"/>
                </a:solidFill>
                <a:latin typeface="Constantia"/>
              </a:rPr>
              <a:t>EXOSPHE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5ff76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5ff76"/>
                </a:solidFill>
                <a:latin typeface="Constantia"/>
              </a:rPr>
              <a:t>This is the highest layer but very little is known abou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5ff76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5ff76"/>
                </a:solidFill>
                <a:latin typeface="Constantia"/>
              </a:rPr>
              <a:t> </a:t>
            </a:r>
            <a:r>
              <a:rPr b="1" lang="en-GB" sz="3200" spc="-1" strike="noStrike">
                <a:solidFill>
                  <a:srgbClr val="05ff76"/>
                </a:solidFill>
                <a:latin typeface="Constantia"/>
              </a:rPr>
              <a:t>Whatever contents are there, these are extremely rarefied in this layer and it gradually merges with the outer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5ff76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Constantia"/>
              </a:rPr>
              <a:t>Geographers are concerned with the first two layers of the atmosp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ATM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atmosphere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ff00">
                <a:alpha val="40000"/>
              </a:srgbClr>
            </a:outerShdw>
          </a:effectLst>
        </p:spPr>
      </p:pic>
      <p:sp>
        <p:nvSpPr>
          <p:cNvPr id="89" name="TextBox 8"/>
          <p:cNvSpPr/>
          <p:nvPr/>
        </p:nvSpPr>
        <p:spPr>
          <a:xfrm>
            <a:off x="4038480" y="3962520"/>
            <a:ext cx="1143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3657600" y="3962520"/>
            <a:ext cx="18288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66"/>
                </a:solidFill>
                <a:latin typeface="Constantia"/>
              </a:rPr>
              <a:t>STRAT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1"/>
          <p:cNvSpPr/>
          <p:nvPr/>
        </p:nvSpPr>
        <p:spPr>
          <a:xfrm>
            <a:off x="4038480" y="3505320"/>
            <a:ext cx="1447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Constantia"/>
              </a:rPr>
              <a:t>MESO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4419720" y="2819520"/>
            <a:ext cx="1752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Constantia"/>
              </a:rPr>
              <a:t>THERMO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5"/>
          <p:cNvSpPr/>
          <p:nvPr/>
        </p:nvSpPr>
        <p:spPr>
          <a:xfrm>
            <a:off x="3733920" y="1371600"/>
            <a:ext cx="1371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Constantia"/>
              </a:rPr>
              <a:t>EXO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7"/>
          <p:cNvSpPr/>
          <p:nvPr/>
        </p:nvSpPr>
        <p:spPr>
          <a:xfrm>
            <a:off x="3276720" y="5105520"/>
            <a:ext cx="17524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66"/>
                </a:solidFill>
                <a:latin typeface="Constantia"/>
              </a:rPr>
              <a:t>TROP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9"/>
          <p:cNvSpPr/>
          <p:nvPr/>
        </p:nvSpPr>
        <p:spPr>
          <a:xfrm>
            <a:off x="7543800" y="5029200"/>
            <a:ext cx="114300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66"/>
                </a:solidFill>
                <a:latin typeface="Constantia"/>
              </a:rPr>
              <a:t>TRPOP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1"/>
          <p:cNvSpPr/>
          <p:nvPr/>
        </p:nvSpPr>
        <p:spPr>
          <a:xfrm>
            <a:off x="7086600" y="3581280"/>
            <a:ext cx="121932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66"/>
                </a:solidFill>
                <a:latin typeface="Constantia"/>
              </a:rPr>
              <a:t>STRTOP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3"/>
          <p:cNvSpPr/>
          <p:nvPr/>
        </p:nvSpPr>
        <p:spPr>
          <a:xfrm>
            <a:off x="7086600" y="3048120"/>
            <a:ext cx="1143000" cy="45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66"/>
                </a:solidFill>
                <a:latin typeface="Constantia"/>
              </a:rPr>
              <a:t>MESOP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5"/>
          <p:cNvSpPr/>
          <p:nvPr/>
        </p:nvSpPr>
        <p:spPr>
          <a:xfrm>
            <a:off x="5410080" y="1600200"/>
            <a:ext cx="1371600" cy="45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66"/>
                </a:solidFill>
                <a:latin typeface="Constantia"/>
              </a:rPr>
              <a:t>THERMOP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27"/>
          <p:cNvSpPr/>
          <p:nvPr/>
        </p:nvSpPr>
        <p:spPr>
          <a:xfrm>
            <a:off x="3048120" y="3886200"/>
            <a:ext cx="55623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31"/>
          <p:cNvSpPr/>
          <p:nvPr/>
        </p:nvSpPr>
        <p:spPr>
          <a:xfrm>
            <a:off x="3124080" y="3429000"/>
            <a:ext cx="5562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5"/>
          <p:cNvSpPr/>
          <p:nvPr/>
        </p:nvSpPr>
        <p:spPr>
          <a:xfrm>
            <a:off x="2978280" y="4794120"/>
            <a:ext cx="6153120" cy="551160"/>
          </a:xfrm>
          <a:prstGeom prst="pie">
            <a:avLst/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6"/>
          <p:cNvSpPr/>
          <p:nvPr/>
        </p:nvSpPr>
        <p:spPr>
          <a:xfrm>
            <a:off x="3187800" y="1747800"/>
            <a:ext cx="5381640" cy="281160"/>
          </a:xfrm>
          <a:prstGeom prst="pie">
            <a:avLst/>
          </a:prstGeom>
          <a:noFill/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086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ff"/>
                </a:solidFill>
                <a:latin typeface="Constantia"/>
              </a:rPr>
              <a:t>What is Atmosphere </a:t>
            </a:r>
            <a:r>
              <a:rPr b="1" lang="en-US" sz="4400" spc="-1" strike="noStrike">
                <a:solidFill>
                  <a:srgbClr val="00ccff"/>
                </a:solidFill>
                <a:latin typeface="Constantia"/>
                <a:ea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1920" y="15238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The air envelope that completely surrounds the Earth is called the atmosp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The atmosphere is composed of gases, dust particles and water vap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The components proportion changes in higher lay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Atmospheric G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ccff"/>
                </a:solidFill>
                <a:latin typeface="Constantia"/>
              </a:rPr>
              <a:t>CO2 is meteorologically a very important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ccff"/>
                </a:solidFill>
                <a:latin typeface="Constantia"/>
              </a:rPr>
              <a:t>It is largely responsible foe Green house ef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ccff"/>
                </a:solidFill>
                <a:latin typeface="Constantia"/>
              </a:rPr>
              <a:t>The volume of CO2 has been rising in the past few decades due to burning of fossil fu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ccff"/>
                </a:solidFill>
                <a:latin typeface="Constantia"/>
              </a:rPr>
              <a:t>This has also increased the air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ccff"/>
                </a:solidFill>
                <a:latin typeface="Constantia"/>
              </a:rPr>
              <a:t>Ozone is the another important components of the atmosp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nstantia"/>
              </a:rPr>
              <a:t>Composition of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76920" y="152388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nstantia"/>
              </a:rPr>
              <a:t>There are  different types of gasses in the atmosphere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nstantia"/>
              </a:rPr>
              <a:t>The gas that is most abundant is nit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04920" y="1523880"/>
          <a:ext cx="3886200" cy="4496040"/>
        </p:xfrm>
        <a:graphic>
          <a:graphicData uri="http://schemas.openxmlformats.org/drawingml/2006/table">
            <a:tbl>
              <a:tblPr/>
              <a:tblGrid>
                <a:gridCol w="2068560"/>
                <a:gridCol w="1817640"/>
              </a:tblGrid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13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Nitro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Oxy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Arg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0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Carbon diox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Ne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Hel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Kryp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86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Xe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Hydro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nstantia"/>
              </a:rPr>
              <a:t>WATER VAP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It is a variable gas in the atmosphere which decreases with altitu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It also decreases from the equator towards the po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It absorbs parts of the insolation from the sun and preserves the earth’s radiated h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It acts like a blanket allowing the earth neither to become too cold nor too ho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onstantia"/>
              </a:rPr>
              <a:t>DUST P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It includes sea salts, fine soil, smoke-soot, ash, pollens, dust and disintegrated particles of mete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They are generally concentrated in the lower layers of the atmosp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They act as hygroscopic nuclei around which water vapour condenses to produce clou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Constantia"/>
              </a:rPr>
              <a:t>Structure of the Atmosp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029200" cy="5715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 atmosphere consist of different layers with varying density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roposp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tratosp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Mesosp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rmosp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xosp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Atm_Structure_Crop"/>
          <p:cNvPicPr/>
          <p:nvPr/>
        </p:nvPicPr>
        <p:blipFill>
          <a:blip r:embed="rId1"/>
          <a:stretch/>
        </p:blipFill>
        <p:spPr>
          <a:xfrm>
            <a:off x="5029200" y="1143000"/>
            <a:ext cx="4114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8" dur="1" fill="hold"/>
                                  <p:tgtEl>
                                    <p:spTgt spid="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9" dur="1" fill="hold"/>
                                  <p:tgtEl>
                                    <p:spTgt spid="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0" dur="1" fill="hold"/>
                                  <p:tgtEl>
                                    <p:spTgt spid="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1" dur="1" fill="hold"/>
                                  <p:tgtEl>
                                    <p:spTgt spid="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2" dur="1" fill="hold"/>
                                  <p:tgtEl>
                                    <p:spTgt spid="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3" dur="1" fill="hold"/>
                                  <p:tgtEl>
                                    <p:spTgt spid="6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nstantia"/>
              </a:rPr>
              <a:t>LAYERS OF THE ATMOSP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atmosphere"/>
          <p:cNvPicPr/>
          <p:nvPr/>
        </p:nvPicPr>
        <p:blipFill>
          <a:blip r:embed="rId1"/>
          <a:stretch/>
        </p:blipFill>
        <p:spPr>
          <a:xfrm>
            <a:off x="1828800" y="137160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0"/>
          <p:cNvSpPr/>
          <p:nvPr/>
        </p:nvSpPr>
        <p:spPr>
          <a:xfrm>
            <a:off x="2362320" y="4952880"/>
            <a:ext cx="990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44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nstantia"/>
              </a:rPr>
              <a:t>TROP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14800" y="914400"/>
            <a:ext cx="5029200" cy="59436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ff76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ff76"/>
                </a:solidFill>
                <a:latin typeface="Constantia"/>
              </a:rPr>
              <a:t>This is the lower most layer of the atmosp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ff76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ff76"/>
                </a:solidFill>
                <a:latin typeface="Constantia"/>
              </a:rPr>
              <a:t>It’s average height is 13 k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ff76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ff76"/>
                </a:solidFill>
                <a:latin typeface="Constantia"/>
              </a:rPr>
              <a:t>Equatorial regions-18km and Polar regions- 8k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ff76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ff76"/>
                </a:solidFill>
                <a:latin typeface="Constantia"/>
              </a:rPr>
              <a:t>It contains dust particles and water vap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ff76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ff76"/>
                </a:solidFill>
                <a:latin typeface="Constantia"/>
              </a:rPr>
              <a:t>This is the most important layer of all biological activity and climatic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ff76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ff76"/>
                </a:solidFill>
                <a:latin typeface="Constantia"/>
              </a:rPr>
              <a:t>The temperature in this layer decreases at the rate of 1</a:t>
            </a:r>
            <a:r>
              <a:rPr b="1" lang="en-US" sz="2400" spc="-1" strike="noStrike" baseline="30000">
                <a:solidFill>
                  <a:srgbClr val="05ff76"/>
                </a:solidFill>
                <a:latin typeface="Constantia"/>
              </a:rPr>
              <a:t>0</a:t>
            </a:r>
            <a:r>
              <a:rPr b="1" lang="en-US" sz="2400" spc="-1" strike="noStrike">
                <a:solidFill>
                  <a:srgbClr val="05ff76"/>
                </a:solidFill>
                <a:latin typeface="Constantia"/>
              </a:rPr>
              <a:t>C for every 165 m height.(normal lapse r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02"/>
          <p:cNvPicPr/>
          <p:nvPr/>
        </p:nvPicPr>
        <p:blipFill>
          <a:blip r:embed="rId1"/>
          <a:stretch/>
        </p:blipFill>
        <p:spPr>
          <a:xfrm>
            <a:off x="0" y="1066680"/>
            <a:ext cx="3962520" cy="5791320"/>
          </a:xfrm>
          <a:prstGeom prst="rect">
            <a:avLst/>
          </a:prstGeom>
          <a:ln w="0">
            <a:noFill/>
          </a:ln>
        </p:spPr>
      </p:pic>
      <p:sp>
        <p:nvSpPr>
          <p:cNvPr id="71" name="TextBox 6"/>
          <p:cNvSpPr/>
          <p:nvPr/>
        </p:nvSpPr>
        <p:spPr>
          <a:xfrm>
            <a:off x="304920" y="6248520"/>
            <a:ext cx="99036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22:36:14Z</dcterms:created>
  <dc:creator>John Hubbard</dc:creator>
  <dc:description/>
  <dc:language>en-US</dc:language>
  <cp:lastModifiedBy>Gvhss</cp:lastModifiedBy>
  <dcterms:modified xsi:type="dcterms:W3CDTF">2017-03-28T15:56:47Z</dcterms:modified>
  <cp:revision>98</cp:revision>
  <dc:subject/>
  <dc:title>Atmosphere</dc:title>
</cp:coreProperties>
</file>